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3244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Hands: An Introduction to the Crime of Intimate and Family Violence, 4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ssel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. •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037E-AD87-49CC-BF72-FE8091F1F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"/>
          <p:cNvPicPr/>
          <p:nvPr/>
        </p:nvPicPr>
        <p:blipFill>
          <a:blip r:embed="rId3"/>
          <a:stretch/>
        </p:blipFill>
        <p:spPr>
          <a:xfrm>
            <a:off x="4038480" y="6248520"/>
            <a:ext cx="114300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pter Eight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2895480"/>
            <a:ext cx="5486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y and Lesbian Partner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ay Male Survivo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imate partner abuse is the third leading health problem facing gay men today, second to substance abuse and AI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roblems for these victims are the silence about same sex battering and the risk of a homophobic respon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factors contribute to the tendency for gay and bisexual men not to report intimate partner ab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y men and bisexual men are likely to deny or minimize the abuse that is perpetrated against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percent of males who self-report being in a same sex relationship also report having  been victimized by a male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esbian Survivo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reports document that intimate partner abuse does occur in lesbian relationshi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one lesbian is abused every minute of every day in the United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otional abuse has been documented as occurring in up to 90 percent of lesbian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s on sexual abuse within lesbian relationships have varied widely, from 7 to 50 perc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pidemic of intimate partner violence in the lesbian community remains largely hid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in lesbian relationships also suffer from physical and psychological abuse at the hands of their part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orms of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-sex intimate partner abuse is similar to heterosexual abuse in many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ms of intimate partner abuse are inclusive of physical, sexual, emotional, economic, and identity ab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hould be noted that a onetime assault may be considered a criminal act; however, it would not be considered abuse unless it is ongoing as part of a pattern to control the vict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ntimate partner violence is severe; victims report the use of weapons such as firearms, bottles, vehicles, rope, and the use of an attack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ree types of abusive lesbian relationship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828800"/>
            <a:ext cx="834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tional batter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nic battering,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or psychological batter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al batter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142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use is experienced only once or twice as a result of a crisis situation. This type of abusive relationship was found to be extremely rare, occurring in 8 percent of the abusive lesbian relationsh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tional violence has alternatively been labeled “common couple violence” because of a belief that it was more common than other forms of couple violenc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consisting of low-level violence from both parties, situational violence differs from other types because there is a lack of desire to control the part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ronic batter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11426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nic lesbian battering represents the category of violence that typically escalates in its severity over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nic lesbian battering relationships are characterized by two or more occurrences of physical violence that demonstrate increasingly destructive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orm of lesbian partner violence is consistent with heterosexual women bat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onal or psychological battering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tional or psychological battering consists of verbal or psychological abuse rather than physical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 emotional or psychological abuse is typically a component seen in chronic battering, it does not constitute criminal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tional and psychological abuses inclu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al abuses such as calling of names, criticizing, playing mind games, humiliating the partner, and reinforcing internalized homopho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orms of Abuse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xual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/Psychological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ty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dentity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371600"/>
            <a:ext cx="8345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to same-sex partnerships is identity abuse, which consists of the threat of “outing” and exposure to homophob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ing is the act of exposing someone as a homosex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alment of the identity is a frequent method of coping with anticipated rejection by socie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ing family, boss, or neighbors about a victim’s identify may jeopardize individual personal relationships and sometimes the victim’s j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tening to “out” someone is a manipulative form of emotional abuse; it can cause anxiety and increase the victim’s iso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oretical Explanation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inist 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-Psychologic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ized Homopho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roduction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BT populations are particularly vulnerable to the harms of marginalization and devaluation in our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ides that have been made for female victims of intimate partner abuse within heterosexual relationships have not translated into social service and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s for homosexual persons who are victimized by a same-sex intimate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willingness to acknowledge intimate partner abuse has come from within the community as well as from outsi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erpetrators in Gay Male Relationship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battering in gay relationships is a largely unexplored issue, intimate abuse is not a gender iss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sychological framework is advocated for battering treat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individual approach to domestic abuse treatment is the assumption that violent responses are learned by an individual during his or her ontogenetic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abit of reacting to conflict with abuse is a behavior that must be controlled prior to engaging in couples counse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erpetrators in Lesbian Relationship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eminist model of power and control is often used to describe the context of battering within a lesbian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elements of hierarchy, power, ownership, entitlement, and control exist in lesbian as in non-lesbian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ve few supportive peer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lesbians are at risk of being trapped in abusive relationships with no role models and no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many similarities exist between lesbian offenders and heterosexual perpetrators, differences also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racteristics of Violent Gay Mal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y batterers are those who are unclear on the concept of masculi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hoose to abuse their lo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abuse is crim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uct is a learned dysfunctional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riminal Justice Intervention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 such as law enforcement are either not accessible or perceived as not acce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ctim advocates charge officers with the failure to meet the needs of intimate abuse victi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bian victims of partner crime feared that they would not receive protection from the police and that calling would expose them to increased victimiz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e refused to take a complaint in 5 percent of cases that were re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ictim was arrested in 1 percent of the cases; and, in 20 percent of the cases, no arrest was m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12 percent of the cases, a complaint was taken and the offender was arres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re 5 to 7 percent of lesbian victims called the pol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egal Issu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2949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estic abuse statutes provide definitions that vary from state to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mming from the failure to define partner violence as including same-sex relationships, the victims in some states do not receive domestic violence prot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ack of legal protection is evidenced in both the civil and criminal cour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gay men and lesbian women are protected from intimate partner violence depends on the state definition of what constitutes a domestic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685800" y="990720"/>
            <a:ext cx="80773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BT same-sex relationships fall within the category of intimate partnershi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BT relationships constitute a nontraditional family with a legal status and protection that varies greatly from state to sta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marriage or same-sex marriage is extremely controvers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, lesbian, bisexual, and transgender partner abuse is difficult to reconcile due to societal preconceptions about a battered victim and relationship expecta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ce/Ethnicity of GLBT Callers in 2007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294920"/>
            <a:ext cx="8345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rican American 1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an/Pacific Islanders 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ab/Middle Easterners &lt;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 4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ina/o 2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jority of callers who utilize the GLBT domestic violence hotline are white; yet diverse ethnic and racial backgrounds are also represented in the population. (Adapted from NCAVP,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tatistic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s suggest that 10 percent of the population is homosex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ely 300,000 same-sex couples and almost 1.2 million gay and lesbian adults registered in the 2000 U.S. Cen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s represent a 300 percent incr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many as 5.7 million individuals from same-sex relationships report being either a victim or perpetrator of intimate partner ab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efinition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LB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—is an acronym for gay, lesbian, bisexual, and transgendered (or trans) individuals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ten as LGB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BT  used as a demographic category, similar to race/ethnicity, sex, disability. Used so that large numbers of people who have major characteristics in common, although they are certainly not “the same,” can be identif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sbia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—Lesbian is a woman whose sexual orientation is to other wom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ay ma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—Gay male refers to a man whose sexual orientation is to other m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ay and homosex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—Gay and homosexual are often used interchangeably to refer to either gay males or lesbian females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y is a preferred term as it is associated with the acceptance of one’s sta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esbian Intimate Partner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2949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definition for describing lesbian intimate partner abuse defines it as a pattern of violent (or) coercive behaviors whereby a lesbian seeks to control the thoughts, beliefs, or conduct of (an) intimate partner or to punish the intimate for resisting the perpetrator’s contr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is purposefully broad and encompasses any form of conduct that may be used by a bisexual or lesbian woman to control her partn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bisexual and lesbian women partner abuse differentiates it from heterosexual partner abuse and brings attention to the fact that partner abuse is experienced by the lesbian co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ay Male Intimate Partner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any unwanted physical force, psychological abuse, or material or property damage inflicted by one man on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s in same-sex and transgender relationships define intimate partner abuse in ways similar to heterosexual ab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evalence of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s agree that GLBT relationship abuse is a serious problem in gay, lesbian, bisexual, or transgender relations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ntly recognized as a social iss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most 1,000 new cases of domestic abuse support for victims were opened in New York C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000 one-time emergency assistance situ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 to 29 percent of the reported cases involve lesbian victim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se within same-sex partnerships is similar to the rate of heterosexual domestic abu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pproximately one in every four relations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ifornia’s report of incidents puts the state in the forefront of reporting GLBT partner ab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ount for 70 percent of the national total of domestic abuse incid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58:21Z</dcterms:created>
  <dc:creator>MDC</dc:creator>
  <dc:description/>
  <dc:language>en-US</dc:language>
  <cp:lastModifiedBy>Michelle Churma</cp:lastModifiedBy>
  <dcterms:modified xsi:type="dcterms:W3CDTF">2009-08-04T15:08:31Z</dcterms:modified>
  <cp:revision>50</cp:revision>
  <dc:subject/>
  <dc:title>Slide 1</dc:title>
</cp:coreProperties>
</file>